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C15A-972D-492B-B2C9-6595C010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CC6B-0800-4EB2-A452-76B65970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75E4-1362-4FFC-B7B2-6677E6904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D0B5-AAB4-4511-A11F-DBC8CC4B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97FA-81A6-46FA-A263-D09CBBF2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B7A6-B4D5-472F-A433-3B05BAEA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DC17-286C-4DCC-889C-B595452E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691E-5BA4-4DC9-B8A2-8949855C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BAA9-1D07-42BD-B414-E318511C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D2D7-F00D-46C0-BD41-DE18C7ED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2837-83E8-40F9-9D9A-27317EEE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665D-7D98-468D-9439-949A6C9A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B6E2-0D22-4DB8-94D3-6B9E403A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9531-530E-4D22-912D-9A144B5B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D12D-285C-4A35-ABFF-09A4844E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701F-5DC7-4263-8891-B0868DEE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DDA8-8E2F-455B-9504-8A53D84C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E333-F4BC-4DFA-B31C-5EA8FD5D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55A7-6604-4415-AB7D-0B452087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35E7-C124-49D2-BD40-BE8A2039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C979-7901-4399-AD77-9FABC041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747B-7736-4CC6-9459-A739AF7C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3728-C56C-413B-AEA4-DADC2583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F635-743B-47AD-A19D-BF43FB7C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CC78-0ABD-489A-A727-DCC6942467E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B2A6-2D59-4C3A-9EFC-CF289473931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-225360" y="1044720"/>
            <a:ext cx="952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049560" y="2743200"/>
            <a:ext cx="174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Rive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19320" y="1219320"/>
            <a:ext cx="918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he Curse of the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Hope Diamon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5029200" y="3276720"/>
            <a:ext cx="3505320" cy="305280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304920" y="3200400"/>
            <a:ext cx="2685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0666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82880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909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2900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1911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9528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1500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810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20600" y="175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268880" y="17524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107320" y="17524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68720" y="175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296720" y="175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82720" y="175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316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3257640" y="2568600"/>
            <a:ext cx="1792080" cy="3222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445680" y="5943600"/>
            <a:ext cx="81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woman who inherits or has a right of inheritance of considerable wealth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53352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75248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97180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11480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3412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24040" y="179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92240" y="17938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96880" y="17938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319280" y="182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624640" y="179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96080" y="19051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133720" y="3124080"/>
            <a:ext cx="4114800" cy="26672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921600" y="6019920"/>
            <a:ext cx="629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pirate ______open the treasure chest that was sea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18760" y="2098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8088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8108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1952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42640" y="2098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5616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2208240" cy="27604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6172200" y="3200400"/>
            <a:ext cx="1755720" cy="266688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3581280" y="3200400"/>
            <a:ext cx="2121120" cy="286848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564480" y="6248520"/>
            <a:ext cx="39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amous, well known for someth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9160" y="2743200"/>
            <a:ext cx="23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eorge Washingt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87040" y="2895480"/>
            <a:ext cx="18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il Armstro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428880" y="277488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be Ru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10666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82880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526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0384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9810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820600" y="1752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507120" y="17524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296720" y="175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26888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49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77360" y="17175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518680" y="171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91920" y="53352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3200400" cy="251460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5867280" y="2743200"/>
            <a:ext cx="2081160" cy="28954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1066320" y="5746680"/>
            <a:ext cx="40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sing or spending in great amou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683720" y="251460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iltmore Hou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1T08:02:48Z</dcterms:created>
  <dc:creator>User</dc:creator>
  <dc:description/>
  <dc:language>en-US</dc:language>
  <cp:lastModifiedBy>Rutherford County Schools</cp:lastModifiedBy>
  <dcterms:modified xsi:type="dcterms:W3CDTF">2007-04-21T15:53:02Z</dcterms:modified>
  <cp:revision>2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uthorEmail">
    <vt:lpwstr>khend1@earthlink.net</vt:lpwstr>
  </property>
  <property fmtid="{D5CDD505-2E9C-101B-9397-08002B2CF9AE}" pid="3" name="_AuthorEmailDisplayName">
    <vt:lpwstr>Kim henderson</vt:lpwstr>
  </property>
  <property fmtid="{D5CDD505-2E9C-101B-9397-08002B2CF9AE}" pid="4" name="_EmailSubject">
    <vt:lpwstr>Please review 'The Curse of the Hope Diamond'</vt:lpwstr>
  </property>
  <property fmtid="{D5CDD505-2E9C-101B-9397-08002B2CF9AE}" pid="5" name="_NewReviewCycle">
    <vt:lpwstr/>
  </property>
  <property fmtid="{D5CDD505-2E9C-101B-9397-08002B2CF9AE}" pid="6" name="_ReviewCycleID">
    <vt:r8>1917053663</vt:r8>
  </property>
  <property fmtid="{D5CDD505-2E9C-101B-9397-08002B2CF9AE}" pid="7" name="_ReviewingToolsShownOnce">
    <vt:lpwstr/>
  </property>
  <property fmtid="{D5CDD505-2E9C-101B-9397-08002B2CF9AE}" pid="8" name="_TentativeReviewCycleID">
    <vt:r8>1917053663</vt:r8>
  </property>
</Properties>
</file>